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17D-DA0F-41B3-942F-14590BA1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CCC-85E7-406A-8C03-0F6DF53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DA0-2362-40B2-9769-87827DE8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052-DE1C-46D4-989F-AB32FC63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23D-D22E-4518-AD97-5801350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522-0D58-4081-A641-4D0294E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A71-4A3D-44CC-A9A0-CD0912A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897-51B9-413A-8B7C-7B33EA3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EB8-7248-4A39-AC9D-86049C46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A01-5C63-4845-BEC1-B07FC6A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F00-9B2E-4D79-8353-48E7712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DF2-2672-498C-85A1-ED1AD68D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845-F3AA-4C6E-95B2-9BC8DC149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Brush 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Paint Str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Da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h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olor H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Inlay Mosa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Patch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ubic Str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4:47:46Z</dcterms:created>
  <dc:creator>Eyemagine</dc:creator>
  <dc:description/>
  <dc:language>en-US</dc:language>
  <cp:lastModifiedBy>Eyemagine</cp:lastModifiedBy>
  <dcterms:modified xsi:type="dcterms:W3CDTF">2005-01-13T15:42:57Z</dcterms:modified>
  <cp:revision>5</cp:revision>
  <dc:subject/>
  <dc:title>Slide 1</dc:title>
</cp:coreProperties>
</file>